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0CC-65EF-4A11-9751-B1E90609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389-8621-493F-A7D2-7A06A406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B4018-741C-461A-AC1A-F855B6A5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947BC-5810-449A-97B3-B95180A5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17CA4-841E-4916-BAF3-D4335DFD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84C91-41F6-40DD-B4FF-F94E886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3E3D6-D78F-4596-859C-B8E3053F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4043B-3DCF-4BEF-80E6-1BD514E6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C91A6-2EDC-49A1-B06B-A3F4953C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6D951-692A-4361-A579-96948818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F9F87-4DDD-483A-92DE-EC3D611A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ACA1B-8E5B-4237-8D89-05279289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A27-281F-4EEE-8840-7DDE036C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77346-3129-4C79-99DC-99F298A7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D906A-12E8-4D95-95AF-38244BA2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11AE0-3A2E-4274-AEFB-2F281DD7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657CF-9189-462F-8FB7-1C36E1E5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50419-9501-4C36-AFB2-9D5EA8F1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1BCB0-F4FD-4AD1-9C31-683D916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5CC20-C024-4A04-BD6B-DEB9C5FA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E932F-76ED-4853-AFE0-95E3131E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9C6FB-80F6-47BD-8B89-0EA8E756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D31EC-597E-488B-B2F1-E42323FE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50A-D79C-4289-9F5B-4848F47A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63FF0-9ACD-48C3-BE23-BBD82631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4CC5F-6B75-4959-B651-5BAAB2F2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4EA71-AC67-4BC9-9B0E-E8EBB772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EAB3F-97B0-429E-A1E6-23EC0A72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FA6D1-C918-44A5-9CF3-ADA82C69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43620-BA17-479B-A097-8989C4A9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EE747-FE06-4756-B510-7C1B118C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1E0F0-3B66-4EF0-9B12-83A57252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38C75-F4B3-4BC7-A9BF-4FC83A0A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A70EF-8A4D-4366-B24C-0041CA21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3847-A966-4C49-9499-4ECE13CB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154A7-331E-4E2C-8A2F-CC5B50B5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B41EF-9A1E-4403-8EE7-1A9AC0D5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726AA-8DFB-4065-9612-0D2F2075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EA420-AC3F-49C0-9B59-E8973FB0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20961-5F60-4959-AE58-FDAF50AC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542F0-1CC5-4E36-BBE5-E65A0B02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1FDC9-8F54-417C-8F5A-6B5DB844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5C14F-8F16-457F-A330-E883F231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1F9F3-400F-46D2-BB4D-5474C2E8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1EA96-DF5C-48D3-BAA5-DE01DF13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91A0-1250-4D52-B80C-363F9727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03359-2FB0-4A6C-8DA3-FBBC03C1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01855-24ED-42FF-A76B-A15C372C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76677-9623-448A-812D-43391561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D9425-5040-4E13-9A5E-1B5633D7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7DD0F-18D7-4A87-BF87-8CCC158E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D318-B2AE-46C0-AA90-88E0B7A9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D2DF-960F-449C-AF7E-6D53A85A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3852-356B-4DC1-B415-2A3D6BA4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9963-E906-4B73-82B3-F808B041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2EFF-DBB9-495D-B83F-D298DAA1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C63-B90C-44EC-B321-C25CE4CC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508B-7811-40EB-AC74-6DC8CB90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E2BD-B4EA-4C60-A4EF-1313C27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C35B-B315-4173-9318-50CA6EAC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6E09-D73B-4C4B-A944-C7EABBEA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6C5E-A28C-4920-9023-5A41C977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416E-8C09-4DC5-AC80-6F864299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5AA1-B070-4BD2-9E2D-EA2DA9CF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300C-6546-42E8-B3D6-D509935E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5496E-E4CC-4397-A306-1B3BA307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DC9C0-616A-43BE-A4E6-A1E47583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F5C-8130-41B7-964D-96DE38F1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A31D-5D81-4902-ABB7-B7341EF5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7664-5BBE-42F4-B5DF-C4427BD6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961A-1FDC-4419-99BD-80361BE8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CF1A3-BCD0-46FE-85BB-2EC10058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1D0F-8657-4892-89BD-101B5E44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84505-488C-4E58-B197-7FC79491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B63E-DD67-4763-ADCC-32507727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2C287-DDAF-4B0B-918A-22FA1659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9FA57-AAAB-4017-8344-4692A8B9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CC31-D177-48B6-BBF4-F00BA5CD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DFF-A20B-4350-85A7-A63DDEED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30115-2513-482A-AA06-4F57D39D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7E38-DD8F-4A29-9427-7A35AD4A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EC50-B7EF-4488-8406-3E2FD24B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B951-91ED-4D2C-BD2B-79115E25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C22DB-6DAC-4C07-9D81-B9A28BE3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32E0A-307F-4B12-8FC9-ACF1CBA2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DF84-D8F4-44D5-8C97-6E997A3D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4514E-7199-4D2B-B8BF-8FBE8FC9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09B82-9BD3-471D-B101-55436434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F425-A483-4E72-ACC6-426F9BF0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D8A-16FF-4406-8A97-D4E10229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C10A9-479E-4B9D-9F7B-04F1ECCB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39A04-E024-4A5D-985F-2E22532C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71A5-DF17-48A8-AE05-B0C5B9E6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CDAC1-BCA6-4642-BBCD-D76CB645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70FFF-6ED1-4B90-B1AD-24809706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6496A-BB89-4107-956A-32A9789F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C2270-F413-427D-9549-5B2B5270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763AD-92C1-40C8-84E1-3615666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2C2DE-BF59-4D91-9F21-146ACE6C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BDBD9-036D-4300-82B6-948D10B7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C80-A462-4CE1-8C3A-0AF1B585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1244D-E859-47EB-B64A-FA9D2A98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6B8B6-0DC3-40CC-91A1-243506EB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76E15-94FB-41DC-9195-5E216C38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4E157-167B-4149-9218-3C8FE372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6763E-D1A2-41DC-904A-A0684156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0424F-5257-4F16-AAC2-01F1AB29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0FE9D-B599-4FF7-B56E-D74F4682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2CEB5-9325-4C24-A8F3-C6505526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939D5-38FD-42ED-AEC8-A33B255A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23DA7-6961-4FE2-AA15-B26A0165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603-1B85-4677-8274-5E3CF9D6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765E8-5B56-45AA-960B-DC05667A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A79B4-D6F4-4BE1-B583-15FA35BE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9AD95-705D-4C02-B779-9EA7D096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11921-A896-493A-9E95-58A93046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90BF1-C6D3-4888-A8ED-938ACDB0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E0679-5A96-4344-A37B-FFD4FED2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BB3D4-BA6B-4E0A-B6E5-BF0BAEB8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1B5A5-92C1-476A-B951-448CAAA7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2B008-FAF3-4C91-A173-6EBD0D4F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86BDC-BC97-456B-95E8-1AB28781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AA8-E7F1-4639-ABF9-2902D6B2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288BE-F011-4719-9F2B-811C285E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7E41A-5A77-45E1-BBF2-E50D9CDE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49C8B-E76E-4B04-B322-57EEC9E8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08FB1-D1A7-4C89-BB42-E348B0F7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B51F4-569F-4D8A-9A62-C0612AE8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C8F35-2BB9-4F26-947F-C8348305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6BEE3-42FD-464E-AF30-CC99A0DC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4271F-7755-4F8D-9161-BEED0081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E38A3-0001-4F50-B72B-C80D2B19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BB1A0-F747-49A0-B4EF-BF03D591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DED-2FD8-4B6A-B12F-10A89FB1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4500D-C13B-4EB4-AB62-4EE8D6C2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DFB3C-FCC1-4F3C-BDEE-3EAF022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97F6A-6D8B-4A71-8C9F-63334BE4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F101C-8842-429D-9F7F-943DEAAB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0F36C-591B-4EDC-918E-9A9BD28C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A2151-6E20-416D-BA9D-B5A54FB9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8B186-A073-4C30-8519-D302A077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FE15D-9A9F-43A0-9854-8DE6B5AF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910A8-6C00-4F63-9351-A73605F7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79D9C-789E-4A70-9C0D-908E2884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398E-2004-469E-8333-41E00958C0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B0A6-968F-49A1-AA0D-D0A5F04E08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6D1E-DF95-4FCD-8ABE-5E50CC841F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A46E-F246-4275-8588-1BEFFC44C2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D929-0A9C-48E1-8EE0-3F2603CB18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DD57-E64A-4679-ABD2-166EA54B41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2E6D-B7CF-44BB-9DA9-6293010E71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ADDA-D60C-443D-916F-E5308B3DF5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0D71-F320-4BF8-88E2-AD4695BDB7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C2E2-C21C-41BC-82F2-F66EFC4136C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B2FA-AC1B-4CB7-AC4B-2D95683820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6CDF-434A-4106-AD8C-9FC19CD577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50 Ty, Pane, ľud svoj vedieš 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Záchranca, zjav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ohnivom stĺp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do ríše večných krás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Pane, ľud svoj vedieš is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ho žehnáš, zveľaďuj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y slovom potešuje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lávny a moc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oblaku skry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nás k cieľu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Záchranca, zjav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ohnivom stĺp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do ríše večných krá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príval zla nás ohroz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nás vedieš, opatruj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oďku žitia usmerňuje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lávny a moc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oblaku skry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nás k cieľu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Záchranca, zjavn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ohnivom stĺp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do ríše večných krá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k tebe sa vždy utieka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nesklameš neopustí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 tvoja nedopus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ať sa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lávny a moc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oblaku skryt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nás k cieľu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1T16:42:53Z</dcterms:modified>
  <cp:revision>23</cp:revision>
  <dc:subject/>
  <dc:title>Je veľký náš Pán, on slávy je Kráľ Nech do všetkých strán  spev vrúcnych znie chvál.</dc:title>
</cp:coreProperties>
</file>